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57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5 - </a:t>
            </a:r>
            <a:fld id="{87D11608-7651-49EB-88FD-9164F850BFFF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6.wmf"/><Relationship Id="rId2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96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33720"/>
            <a:ext cx="2895480" cy="1168200"/>
            <a:chOff x="685800" y="2133720"/>
            <a:chExt cx="2895480" cy="1168200"/>
          </a:xfrm>
        </p:grpSpPr>
        <p:sp>
          <p:nvSpPr>
            <p:cNvPr id="168" name=""/>
            <p:cNvSpPr/>
            <p:nvPr/>
          </p:nvSpPr>
          <p:spPr>
            <a:xfrm>
              <a:off x="685800" y="2133720"/>
              <a:ext cx="289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1828800" y="2895480"/>
            <a:ext cx="1600200" cy="40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895480"/>
                      <a:ext cx="16002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1" name=""/>
          <p:cNvGraphicFramePr/>
          <p:nvPr/>
        </p:nvGraphicFramePr>
        <p:xfrm>
          <a:off x="2222640" y="3575160"/>
          <a:ext cx="1015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2640" y="3575160"/>
                    <a:ext cx="1015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273400" y="4248000"/>
          <a:ext cx="965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4248000"/>
                    <a:ext cx="965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413080" y="5334120"/>
          <a:ext cx="8254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3080" y="5334120"/>
                    <a:ext cx="825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4811400" y="5562720"/>
            <a:ext cx="2846880" cy="838080"/>
            <a:chOff x="4811400" y="5562720"/>
            <a:chExt cx="2846880" cy="838080"/>
          </a:xfrm>
        </p:grpSpPr>
        <p:sp>
          <p:nvSpPr>
            <p:cNvPr id="178" name=""/>
            <p:cNvSpPr/>
            <p:nvPr/>
          </p:nvSpPr>
          <p:spPr>
            <a:xfrm>
              <a:off x="4811400" y="5718240"/>
              <a:ext cx="22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olution 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7238880" y="5562720"/>
            <a:ext cx="419400" cy="838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8880" y="5562720"/>
                      <a:ext cx="4194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"/>
          <p:cNvSpPr/>
          <p:nvPr/>
        </p:nvSpPr>
        <p:spPr>
          <a:xfrm>
            <a:off x="7394760" y="45100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5880" y="4637160"/>
          <a:ext cx="119376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4637160"/>
                    <a:ext cx="11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91000" y="2971800"/>
          <a:ext cx="21844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1000" y="2971800"/>
                    <a:ext cx="2184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410080" y="3962520"/>
          <a:ext cx="107964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3962520"/>
                    <a:ext cx="107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5334120" y="2529000"/>
            <a:ext cx="2209680" cy="2500200"/>
            <a:chOff x="5334120" y="2529000"/>
            <a:chExt cx="2209680" cy="2500200"/>
          </a:xfrm>
        </p:grpSpPr>
        <p:graphicFrame>
          <p:nvGraphicFramePr>
            <p:cNvPr id="189" name=""/>
            <p:cNvGraphicFramePr/>
            <p:nvPr/>
          </p:nvGraphicFramePr>
          <p:xfrm>
            <a:off x="5638680" y="2529000"/>
            <a:ext cx="1600200" cy="406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38680" y="2529000"/>
                      <a:ext cx="16002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1" name=""/>
            <p:cNvGrpSpPr/>
            <p:nvPr/>
          </p:nvGrpSpPr>
          <p:grpSpPr>
            <a:xfrm>
              <a:off x="5334120" y="2960640"/>
              <a:ext cx="2209680" cy="2068560"/>
              <a:chOff x="5334120" y="2960640"/>
              <a:chExt cx="2209680" cy="2068560"/>
            </a:xfrm>
          </p:grpSpPr>
          <p:sp>
            <p:nvSpPr>
              <p:cNvPr id="192" name=""/>
              <p:cNvSpPr/>
              <p:nvPr/>
            </p:nvSpPr>
            <p:spPr>
              <a:xfrm>
                <a:off x="5334120" y="296064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80160" y="2960640"/>
                <a:ext cx="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05720" y="358128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03480" y="1371600"/>
            <a:ext cx="2117880" cy="838080"/>
            <a:chOff x="4803480" y="1371600"/>
            <a:chExt cx="2117880" cy="838080"/>
          </a:xfrm>
        </p:grpSpPr>
        <p:graphicFrame>
          <p:nvGraphicFramePr>
            <p:cNvPr id="196" name=""/>
            <p:cNvGraphicFramePr/>
            <p:nvPr/>
          </p:nvGraphicFramePr>
          <p:xfrm>
            <a:off x="6095880" y="1371600"/>
            <a:ext cx="825480" cy="838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095880" y="1371600"/>
                      <a:ext cx="825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4803480" y="1538280"/>
              <a:ext cx="116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ff"/>
                  </a:solidFill>
                  <a:latin typeface="Times New Roman"/>
                </a:rPr>
                <a:t>Check</a:t>
              </a:r>
              <a:r>
                <a:rPr b="0" lang="en-US" sz="2800" spc="-1" strike="noStrike">
                  <a:solidFill>
                    <a:srgbClr val="3333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8800" y="1270080"/>
          <a:ext cx="3111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70080"/>
                    <a:ext cx="3111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298600" y="2362320"/>
          <a:ext cx="2959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8600" y="2362320"/>
                    <a:ext cx="2959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85800" y="1905120"/>
            <a:ext cx="396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768760" y="2895480"/>
          <a:ext cx="24890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8760" y="2895480"/>
                    <a:ext cx="2489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594240" y="3505320"/>
          <a:ext cx="196848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4240" y="3505320"/>
                    <a:ext cx="19684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733920" y="4038480"/>
          <a:ext cx="17650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4038480"/>
                    <a:ext cx="1765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8120" y="4495680"/>
          <a:ext cx="227304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495680"/>
                    <a:ext cx="2273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806560" y="5010120"/>
          <a:ext cx="25146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06560" y="5010120"/>
                    <a:ext cx="25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378240" y="5638680"/>
          <a:ext cx="317484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78240" y="5638680"/>
                    <a:ext cx="3174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98800" y="6172200"/>
          <a:ext cx="234972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98800" y="6172200"/>
                    <a:ext cx="2349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05200" y="1218960"/>
            <a:ext cx="2439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3160" y="298620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626080" y="1919160"/>
            <a:ext cx="3137040" cy="457200"/>
            <a:chOff x="5626080" y="1919160"/>
            <a:chExt cx="3137040" cy="457200"/>
          </a:xfrm>
        </p:grpSpPr>
        <p:sp>
          <p:nvSpPr>
            <p:cNvPr id="224" name=""/>
            <p:cNvSpPr/>
            <p:nvPr/>
          </p:nvSpPr>
          <p:spPr>
            <a:xfrm>
              <a:off x="5626080" y="2376360"/>
              <a:ext cx="313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5626080" y="1919160"/>
            <a:ext cx="2959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6080" y="1919160"/>
                      <a:ext cx="2959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7" name=""/>
          <p:cNvGraphicFramePr/>
          <p:nvPr/>
        </p:nvGraphicFramePr>
        <p:xfrm>
          <a:off x="4749840" y="2452680"/>
          <a:ext cx="4038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2452680"/>
                    <a:ext cx="4038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62120" y="1219320"/>
            <a:ext cx="243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5760" y="45100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909880" y="4611600"/>
          <a:ext cx="97776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611600"/>
                    <a:ext cx="977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82640" y="1905120"/>
            <a:ext cx="3137040" cy="2971800"/>
            <a:chOff x="782640" y="1905120"/>
            <a:chExt cx="3137040" cy="2971800"/>
          </a:xfrm>
        </p:grpSpPr>
        <p:grpSp>
          <p:nvGrpSpPr>
            <p:cNvPr id="234" name=""/>
            <p:cNvGrpSpPr/>
            <p:nvPr/>
          </p:nvGrpSpPr>
          <p:grpSpPr>
            <a:xfrm>
              <a:off x="782640" y="2362320"/>
              <a:ext cx="3137040" cy="2514600"/>
              <a:chOff x="782640" y="2362320"/>
              <a:chExt cx="3137040" cy="2514600"/>
            </a:xfrm>
          </p:grpSpPr>
          <p:sp>
            <p:nvSpPr>
              <p:cNvPr id="235" name=""/>
              <p:cNvSpPr/>
              <p:nvPr/>
            </p:nvSpPr>
            <p:spPr>
              <a:xfrm>
                <a:off x="782640" y="2362320"/>
                <a:ext cx="3137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86160" y="2362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86160" y="3124080"/>
                <a:ext cx="0" cy="1752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38" name=""/>
            <p:cNvGraphicFramePr/>
            <p:nvPr/>
          </p:nvGraphicFramePr>
          <p:xfrm>
            <a:off x="782640" y="1905120"/>
            <a:ext cx="295920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82640" y="1905120"/>
                      <a:ext cx="2959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528480" y="2527200"/>
          <a:ext cx="34038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480" y="2527200"/>
                    <a:ext cx="3403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95280" y="3124080"/>
          <a:ext cx="17272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3124080"/>
                    <a:ext cx="1727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716120" y="3581280"/>
          <a:ext cx="133344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6120" y="358128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211480" y="4114800"/>
          <a:ext cx="86364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11480" y="4114800"/>
                    <a:ext cx="86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3808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–5 is not a solution because negative numbers do not have real number logarithms. The solution is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96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879560" y="1270080"/>
          <a:ext cx="40640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270080"/>
                    <a:ext cx="4064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09480" y="2514600"/>
          <a:ext cx="39499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4600"/>
                    <a:ext cx="3949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85800" y="1905120"/>
            <a:ext cx="396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371600" y="3124080"/>
          <a:ext cx="21844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124080"/>
                    <a:ext cx="2184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676520" y="4191120"/>
          <a:ext cx="15494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191120"/>
                    <a:ext cx="154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33520" y="5181480"/>
          <a:ext cx="3657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181480"/>
                    <a:ext cx="365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765440" y="6172200"/>
          <a:ext cx="234936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65440" y="6172200"/>
                    <a:ext cx="2349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867280" y="2635200"/>
          <a:ext cx="19558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2635200"/>
                    <a:ext cx="1955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899320" y="3200400"/>
          <a:ext cx="250164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99320" y="3200400"/>
                    <a:ext cx="2501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257800" y="3892680"/>
          <a:ext cx="316224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7800" y="3892680"/>
                    <a:ext cx="3162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715000" y="4432320"/>
          <a:ext cx="232416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432320"/>
                    <a:ext cx="23241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800600" y="5181480"/>
            <a:ext cx="3963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value 2 checks and it is the only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- Using the Graphing Calculator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.3 = 2.0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1946160"/>
            <a:ext cx="3657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.3  and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.2        and use the Intersec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2462040"/>
            <a:ext cx="4419360" cy="3754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85800" y="4952880"/>
            <a:ext cx="3657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ximate solutions are –6.471 and 6.6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6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5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Exponential and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1028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exponenti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logarithmic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Exponential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with variables in the exponents, such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     and    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exponenti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property to solve exponential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-Exponent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8912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each side as a power of the same number (b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828800" y="1193760"/>
          <a:ext cx="1612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193760"/>
                    <a:ext cx="161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63200" y="1157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0481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bases are the same number, 2, we can use the base-exponent property and set the exponents eq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48040" y="2679840"/>
          <a:ext cx="14097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8040" y="2679840"/>
                    <a:ext cx="1409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14400" y="4343400"/>
          <a:ext cx="147312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343400"/>
                    <a:ext cx="1473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447920" y="4883040"/>
          <a:ext cx="1092240" cy="2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883040"/>
                    <a:ext cx="10922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638360" y="5423040"/>
          <a:ext cx="78732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38360" y="5423040"/>
                    <a:ext cx="787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76720" y="41911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3360" y="596916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369120" y="6095880"/>
          <a:ext cx="110484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69120" y="6095880"/>
                    <a:ext cx="11048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651640" y="4724280"/>
          <a:ext cx="2120760" cy="4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51640" y="4724280"/>
                    <a:ext cx="2120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5562720" y="4191120"/>
            <a:ext cx="2209680" cy="2057400"/>
            <a:chOff x="5562720" y="4191120"/>
            <a:chExt cx="2209680" cy="2057400"/>
          </a:xfrm>
        </p:grpSpPr>
        <p:grpSp>
          <p:nvGrpSpPr>
            <p:cNvPr id="114" name=""/>
            <p:cNvGrpSpPr/>
            <p:nvPr/>
          </p:nvGrpSpPr>
          <p:grpSpPr>
            <a:xfrm>
              <a:off x="5562720" y="4191120"/>
              <a:ext cx="2209680" cy="2057400"/>
              <a:chOff x="5562720" y="4191120"/>
              <a:chExt cx="2209680" cy="20574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562720" y="4648320"/>
                <a:ext cx="2209680" cy="1600200"/>
                <a:chOff x="5562720" y="4648320"/>
                <a:chExt cx="2209680" cy="1600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562720" y="4648320"/>
                  <a:ext cx="2209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8480" y="5181480"/>
                  <a:ext cx="0" cy="1067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18" name=""/>
              <p:cNvGraphicFramePr/>
              <p:nvPr/>
            </p:nvGraphicFramePr>
            <p:xfrm>
              <a:off x="6019920" y="4191120"/>
              <a:ext cx="1612800" cy="457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019920" y="4191120"/>
                        <a:ext cx="16128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0" name=""/>
            <p:cNvSpPr/>
            <p:nvPr/>
          </p:nvSpPr>
          <p:spPr>
            <a:xfrm>
              <a:off x="6908760" y="464832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5867280" y="5181480"/>
          <a:ext cx="673200" cy="36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5181480"/>
                    <a:ext cx="673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34040" y="5638680"/>
          <a:ext cx="343080" cy="36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34040" y="5638680"/>
                    <a:ext cx="343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666880" y="603396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Property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0773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ty of Logarithmic 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488600"/>
            <a:ext cx="80773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3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962520" y="289548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exact answer. We cannot simplify further, but we can approximate using a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08240" y="3200400"/>
          <a:ext cx="20826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3200400"/>
                    <a:ext cx="20826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44520" y="3930480"/>
          <a:ext cx="21463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4520" y="3930480"/>
                    <a:ext cx="2146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930320" y="4584600"/>
          <a:ext cx="149868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0320" y="4584600"/>
                    <a:ext cx="14986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685800" y="2098800"/>
            <a:ext cx="8077320" cy="898560"/>
            <a:chOff x="685800" y="2098800"/>
            <a:chExt cx="8077320" cy="898560"/>
          </a:xfrm>
        </p:grpSpPr>
        <p:sp>
          <p:nvSpPr>
            <p:cNvPr id="142" name=""/>
            <p:cNvSpPr/>
            <p:nvPr/>
          </p:nvSpPr>
          <p:spPr>
            <a:xfrm>
              <a:off x="685800" y="2098800"/>
              <a:ext cx="8077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1828800" y="2629080"/>
            <a:ext cx="109224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2629080"/>
                      <a:ext cx="10922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5" name=""/>
          <p:cNvGraphicFramePr/>
          <p:nvPr/>
        </p:nvGraphicFramePr>
        <p:xfrm>
          <a:off x="3581280" y="4876920"/>
          <a:ext cx="12956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4876920"/>
                    <a:ext cx="12956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79360" y="58816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heck by finding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.726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.08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4080" y="595800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about 97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5800" y="1981080"/>
            <a:ext cx="8077320" cy="978120"/>
            <a:chOff x="685800" y="1981080"/>
            <a:chExt cx="8077320" cy="978120"/>
          </a:xfrm>
        </p:grpSpPr>
        <p:graphicFrame>
          <p:nvGraphicFramePr>
            <p:cNvPr id="152" name=""/>
            <p:cNvGraphicFramePr/>
            <p:nvPr/>
          </p:nvGraphicFramePr>
          <p:xfrm>
            <a:off x="1828800" y="2590920"/>
            <a:ext cx="17654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590920"/>
                      <a:ext cx="17654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685800" y="1981080"/>
              <a:ext cx="8077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1511280" y="3200400"/>
          <a:ext cx="240048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1280" y="3200400"/>
                    <a:ext cx="24004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467000" y="3765600"/>
          <a:ext cx="23493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7000" y="3765600"/>
                    <a:ext cx="2349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14640" y="4343400"/>
          <a:ext cx="17906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14640" y="4343400"/>
                    <a:ext cx="1790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5423040"/>
          <a:ext cx="114300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5423040"/>
                    <a:ext cx="11430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olving Logarithmic Equa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containing variables in logarithmic  expressions, 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  and      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lo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=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logarithmic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logarithmic equations algebraically, we first try to obtain a single logarithmic expression on one side and then write an equivalent exponential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21T21:05:51Z</dcterms:modified>
  <cp:revision>206</cp:revision>
  <dc:subject/>
  <dc:title>No Slide Title</dc:title>
</cp:coreProperties>
</file>